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3D4-59FD-4FA9-B2DE-85BA3AE6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FED-3FC3-44D8-BE40-B313369D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8505-E6CF-4CCE-9032-B43EB3D1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7E1-0355-4A80-B4D6-221C55FD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315-F5B6-43B3-8475-3D961FB6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A51-2403-4215-AECD-53FA3873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AF8-6B0D-4E79-A616-EEEC0002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B069-67C7-43D9-8DC1-1354D423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46C-E3F7-4E3C-998D-4B20DFA8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85E-93D1-4DD7-83D5-1F8B2111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0C9-C132-4289-BC13-BC0D124E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49C-05D9-4659-8ECE-08DDD8D9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F968-B6E9-47A5-8A83-B02C04DEF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265400"/>
            <a:ext cx="9144000" cy="3992400"/>
            <a:chOff x="0" y="1265400"/>
            <a:chExt cx="9144000" cy="39924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1265400"/>
              <a:ext cx="9144000" cy="38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54280" y="4084920"/>
              <a:ext cx="5651640" cy="117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17:54Z</dcterms:created>
  <dc:creator>Dr. Kerstin Lieneman</dc:creator>
  <dc:description/>
  <dc:language>en-US</dc:language>
  <cp:lastModifiedBy>Dr. Kerstin Lieneman</cp:lastModifiedBy>
  <dcterms:modified xsi:type="dcterms:W3CDTF">2010-04-19T12:22:47Z</dcterms:modified>
  <cp:revision>1</cp:revision>
  <dc:subject/>
  <dc:title>PowerPoint-Präsentation</dc:title>
</cp:coreProperties>
</file>